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644E-D1EE-49EC-BFA4-1189EAA30012}"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87CC-4A59-4434-88B4-A8C9E0E1EB3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AE41-C87C-44C6-8ECA-B9DDB726DBD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507E-675B-4597-ADE6-21ED35E8C47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9CE6-2EAF-4DCD-AF44-F86520276E4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BE14-7764-44E2-8845-A6836CC8D88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3725-5122-4E43-AEB4-10914C39327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AA99-0D1D-475F-87B6-F5CDB2E116C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3847-341F-4EB3-93CC-C1B86FB5D82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760D-E639-4C64-B25A-BDEB05FAD2D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F49E-98C6-4F31-80A0-38F1E6EE50A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B0DD-F593-4839-B03F-D5D19BA8CE4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7A9D-55E4-4D7C-978C-8ABF5E52093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D7C3-0F66-4DED-A6EA-DB5F08F3385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6453-D802-4ACD-8517-E22BDD76966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FA7E-4BEB-42D8-8880-99AA35AB9BF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705D-7904-4696-8C66-57AF61FDAB6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9938-D509-449B-8BA8-1E1B2A8231A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B917-4271-400B-A980-6484A9BB710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67D2-BF41-49DD-BD4C-8ADD1F8AE78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D4D0-BE0C-4C23-BDC4-F84BA74E4A6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0955-3775-4CBD-83B6-A49EEF2F143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6260F-4DDC-414A-BE68-CAE23D677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D05DB-2C13-4982-B6B9-BC843EAEE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56E1D-C812-46D4-880F-26F8E789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F3793-846F-42A9-9D06-3486E0260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5DAB9-A226-4194-9156-917365677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B74E7-04AA-4487-9CFD-4AE8ACB4F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6B687-5345-494D-9A62-BE10D3B8B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0DE8-2686-4507-876C-C83C31521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2020C-2ADF-4FA6-9F57-0AC35BDF6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541BD-D71F-477B-A005-AAC19B7A6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6E4D-CC20-4B80-91AB-9F5706AA8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5992-4ADD-446B-92F9-A1EE4795D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7602-2626-4384-A59E-274337C0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F17C-29B7-4CDB-A998-BEC42F95B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DB0CE-8666-4F6A-B842-B028EB874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4DC57-43A0-4234-81E3-C6CEFC8E3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C4003-BCE3-4DE3-83D3-3B63BA698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E5999-ACB0-472B-ADB4-1812807958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C0BB0-5EB4-4605-B5EB-5F4167182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D1C15-48F9-4AAC-8605-C31DFD801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24C85-02AF-4DA5-A043-6740D92D1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56DAE-EA0C-4C19-A05F-A9B8CA01C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A50E-966E-4BA0-B2AC-9FC07572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CC5AD-190F-4AFC-93B7-DC7E0C6E9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15920-5067-4817-8A92-654C4796F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3B9A6-B701-464C-8F29-68BB99A03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7CD95-23AA-4185-B755-AC1CF406C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55536-C65F-4FA4-A6F9-52493FAB9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F6F72-6AA9-4A36-87B3-90FF8E21E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79277C-2A30-49CE-8479-12BF07D17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F0CE8-759E-4A4C-A9CD-54562D514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B27B5-2CB4-4C7B-9A6E-F5FEA5448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09721-A70E-41AC-A827-93639E5AF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ABEF-7AD9-4AC7-B6AC-8CB15656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B2E82-1CDF-4D34-8083-9FB8B8B7D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23F0E-5C84-4304-85D4-872C448175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1A580-4864-478F-AE47-050A96363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C4337-5D60-4FCD-A6A0-1414481FE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EC585-FCDF-428C-981C-5E07A89B9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DA5D9-AB20-4B4E-9437-A279FA3BC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F625C-77F7-49BE-A690-291871463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D370FD-9BA8-4C72-8DE3-33AA2864DE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C8CA1B-66F2-42D3-9704-4764D9C9C8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703F8-AED6-4AF4-9C08-3D6CAA7D1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F5F06-2999-4CCD-B147-9E842FB2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5E41-3077-4F0A-90C6-9D71AD22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8831-389D-48A2-A0DC-07B62587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62AE-95AC-4391-861C-E9CD8336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B7DC-6D42-47DC-A759-1BBE659220DC}"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 Ομάδα"/>
          <p:cNvGrpSpPr/>
          <p:nvPr/>
        </p:nvGrpSpPr>
        <p:grpSpPr>
          <a:xfrm>
            <a:off x="-19080" y="203040"/>
            <a:ext cx="9181080" cy="648000"/>
            <a:chOff x="-19080" y="203040"/>
            <a:chExt cx="9181080" cy="648000"/>
          </a:xfrm>
        </p:grpSpPr>
        <p:grpSp>
          <p:nvGrpSpPr>
            <p:cNvPr id="8" name="11 - Ελεύθερη σχεδίαση"/>
            <p:cNvGrpSpPr/>
            <p:nvPr/>
          </p:nvGrpSpPr>
          <p:grpSpPr>
            <a:xfrm>
              <a:off x="-19080" y="203040"/>
              <a:ext cx="9162720" cy="648000"/>
              <a:chOff x="-19080" y="203040"/>
              <a:chExt cx="9162720" cy="648000"/>
            </a:xfrm>
          </p:grpSpPr>
          <p:pic>
            <p:nvPicPr>
              <p:cNvPr id="9" name="11 - Ελεύθερη σχεδίαση"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 Ελεύθερη σχεδίαση"/>
            <p:cNvGrpSpPr/>
            <p:nvPr/>
          </p:nvGrpSpPr>
          <p:grpSpPr>
            <a:xfrm>
              <a:off x="-19080" y="248040"/>
              <a:ext cx="9181080" cy="561600"/>
              <a:chOff x="-19080" y="248040"/>
              <a:chExt cx="9181080" cy="561600"/>
            </a:xfrm>
          </p:grpSpPr>
          <p:pic>
            <p:nvPicPr>
              <p:cNvPr id="12" name="12 - Ελεύθερη σχεδίαση"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 Ομάδα"/>
          <p:cNvGrpSpPr/>
          <p:nvPr/>
        </p:nvGrpSpPr>
        <p:grpSpPr>
          <a:xfrm>
            <a:off x="-19080" y="203040"/>
            <a:ext cx="9181080" cy="648000"/>
            <a:chOff x="-19080" y="203040"/>
            <a:chExt cx="9181080" cy="648000"/>
          </a:xfrm>
        </p:grpSpPr>
        <p:grpSp>
          <p:nvGrpSpPr>
            <p:cNvPr id="53" name="11 - Ελεύθερη σχεδίαση"/>
            <p:cNvGrpSpPr/>
            <p:nvPr/>
          </p:nvGrpSpPr>
          <p:grpSpPr>
            <a:xfrm>
              <a:off x="-19080" y="203040"/>
              <a:ext cx="9162720" cy="648000"/>
              <a:chOff x="-19080" y="203040"/>
              <a:chExt cx="9162720" cy="648000"/>
            </a:xfrm>
          </p:grpSpPr>
          <p:pic>
            <p:nvPicPr>
              <p:cNvPr id="54" name="11 - Ελεύθερη σχεδίαση"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 Ελεύθερη σχεδίαση"/>
            <p:cNvGrpSpPr/>
            <p:nvPr/>
          </p:nvGrpSpPr>
          <p:grpSpPr>
            <a:xfrm>
              <a:off x="-19080" y="248040"/>
              <a:ext cx="9181080" cy="561600"/>
              <a:chOff x="-19080" y="248040"/>
              <a:chExt cx="9181080" cy="561600"/>
            </a:xfrm>
          </p:grpSpPr>
          <p:pic>
            <p:nvPicPr>
              <p:cNvPr id="57" name="12 - Ελεύθερη σχεδίαση"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BC68-4984-46E8-97E6-48A37FD00412}"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 Ομάδα"/>
          <p:cNvGrpSpPr/>
          <p:nvPr/>
        </p:nvGrpSpPr>
        <p:grpSpPr>
          <a:xfrm>
            <a:off x="-19080" y="203040"/>
            <a:ext cx="9181080" cy="648000"/>
            <a:chOff x="-19080" y="203040"/>
            <a:chExt cx="9181080" cy="648000"/>
          </a:xfrm>
        </p:grpSpPr>
        <p:grpSp>
          <p:nvGrpSpPr>
            <p:cNvPr id="103" name="11 - Ελεύθερη σχεδίαση"/>
            <p:cNvGrpSpPr/>
            <p:nvPr/>
          </p:nvGrpSpPr>
          <p:grpSpPr>
            <a:xfrm>
              <a:off x="-19080" y="203040"/>
              <a:ext cx="9162720" cy="648000"/>
              <a:chOff x="-19080" y="203040"/>
              <a:chExt cx="9162720" cy="648000"/>
            </a:xfrm>
          </p:grpSpPr>
          <p:pic>
            <p:nvPicPr>
              <p:cNvPr id="104" name="11 - Ελεύθερη σχεδίαση"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 Ελεύθερη σχεδίαση"/>
            <p:cNvGrpSpPr/>
            <p:nvPr/>
          </p:nvGrpSpPr>
          <p:grpSpPr>
            <a:xfrm>
              <a:off x="-19080" y="248040"/>
              <a:ext cx="9181080" cy="561600"/>
              <a:chOff x="-19080" y="248040"/>
              <a:chExt cx="9181080" cy="561600"/>
            </a:xfrm>
          </p:grpSpPr>
          <p:pic>
            <p:nvPicPr>
              <p:cNvPr id="107" name="12 - Ελεύθερη σχεδίαση"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7941-36E5-4C43-B4AC-7820566BF292}"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 Ψαλίδισμα και στρογγύλεμα μίας γωνίας του ορθογωνίου"/>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 Ορθογώνιο τρίγωνο"/>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 Ελεύθερη σχεδίαση"/>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 Ελεύθερη σχεδίαση"/>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0DEE-3462-423A-BE7A-A577E1B5DE35}"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 Τίτλος" descr=""/>
          <p:cNvPicPr/>
          <p:nvPr/>
        </p:nvPicPr>
        <p:blipFill>
          <a:blip r:embed="rId1"/>
          <a:stretch/>
        </p:blipFill>
        <p:spPr>
          <a:xfrm>
            <a:off x="500040" y="1249200"/>
            <a:ext cx="7905600" cy="2006640"/>
          </a:xfrm>
          <a:prstGeom prst="rect">
            <a:avLst/>
          </a:prstGeom>
          <a:ln w="0">
            <a:noFill/>
          </a:ln>
        </p:spPr>
      </p:pic>
      <p:sp>
        <p:nvSpPr>
          <p:cNvPr id="203" name="PlaceHolder 1"/>
          <p:cNvSpPr>
            <a:spLocks noGrp="1"/>
          </p:cNvSpPr>
          <p:nvPr>
            <p:ph type="subTitle"/>
          </p:nvPr>
        </p:nvSpPr>
        <p:spPr>
          <a:xfrm>
            <a:off x="1115640" y="3933360"/>
            <a:ext cx="7854840" cy="1752840"/>
          </a:xfrm>
          <a:prstGeom prst="rect">
            <a:avLst/>
          </a:prstGeom>
          <a:noFill/>
          <a:ln w="0">
            <a:noFill/>
          </a:ln>
        </p:spPr>
        <p:txBody>
          <a:bodyPr lIns="0" rIns="183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8 διδακτικές ώρες</a:t>
            </a:r>
            <a:r>
              <a:rPr b="1" lang="en-US" sz="2800" spc="-1" strike="noStrike">
                <a:solidFill>
                  <a:srgbClr val="ffffff"/>
                </a:solidFill>
                <a:latin typeface="Constantia"/>
              </a:rPr>
              <a:t> </a:t>
            </a:r>
            <a:r>
              <a:rPr b="1" lang="el-GR" sz="2800" spc="-1" strike="noStrike">
                <a:solidFill>
                  <a:srgbClr val="ffffff"/>
                </a:solidFill>
                <a:latin typeface="Constantia"/>
              </a:rPr>
              <a:t>ή 4 δίωρα</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Γυμνάσιο, τάξη Γ</a:t>
            </a:r>
            <a:r>
              <a:rPr b="1" lang="el-GR" sz="2800" spc="-1" strike="noStrike">
                <a:solidFill>
                  <a:srgbClr val="ffffff"/>
                </a:solidFill>
                <a:latin typeface="Constantia"/>
              </a:rPr>
              <a:t>΄</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nstantia"/>
              </a:rPr>
              <a:t>Σταύρος Γιαγκάζογλου, Όλγα Γριζοπούλου, Άγγελος Βαλλιανάτος</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3160" y="189000"/>
            <a:ext cx="7854840" cy="151128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ναγνώριση της διαχρονικότητας του κοσμολογικού ερωτήματος σε όλους τους πολιτισμούς</a:t>
            </a:r>
            <a:endParaRPr b="0" lang="en-US" sz="2800" spc="-1" strike="noStrike">
              <a:solidFill>
                <a:srgbClr val="ffffff"/>
              </a:solidFill>
              <a:latin typeface="Constantia"/>
            </a:endParaRPr>
          </a:p>
        </p:txBody>
      </p:sp>
      <p:sp>
        <p:nvSpPr>
          <p:cNvPr id="216" name="4 - Υπότιτλος"/>
          <p:cNvSpPr/>
          <p:nvPr/>
        </p:nvSpPr>
        <p:spPr>
          <a:xfrm>
            <a:off x="539640" y="1628640"/>
            <a:ext cx="785520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Ερμηνευτική / κριτική προσέγγιση του 1</a:t>
            </a:r>
            <a:r>
              <a:rPr b="0" lang="el-GR" sz="2800" spc="-1" strike="noStrike" baseline="30000">
                <a:solidFill>
                  <a:srgbClr val="000000"/>
                </a:solidFill>
                <a:latin typeface="Constantia"/>
              </a:rPr>
              <a:t>ου</a:t>
            </a:r>
            <a:r>
              <a:rPr b="0" lang="el-GR" sz="2800" spc="-1" strike="noStrike">
                <a:solidFill>
                  <a:srgbClr val="000000"/>
                </a:solidFill>
                <a:latin typeface="Constantia"/>
              </a:rPr>
              <a:t> κεφαλαίου της Γενέσεως και αναγνώριση των προτάσεων ζωής που κομίζει</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Κατανόηση της διαφοράς των θεολογικών κριτηρίων προσέγγισης του θέματος από τα επιστημονικά δεδομένα ή άλλα κοσμοείδωλα</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Συζήτηση και έκφραση προσωπικών απόψεων πάνω στις ευθύνες των σύγχρονων ανθρώπων για τον κόσμο</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4 - Υπότιτλος"/>
          <p:cNvSpPr/>
          <p:nvPr/>
        </p:nvSpPr>
        <p:spPr>
          <a:xfrm>
            <a:off x="685800" y="5805360"/>
            <a:ext cx="7854840" cy="792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Ανάληψη μιας ευθύνης </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7" dur="2000"/>
                                        <p:tgtEl>
                                          <p:spTgt spid="2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2" dur="2000"/>
                                        <p:tgtEl>
                                          <p:spTgt spid="21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7" dur="2000"/>
                                        <p:tgtEl>
                                          <p:spTgt spid="21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2" dur="2000"/>
                                        <p:tgtEl>
                                          <p:spTgt spid="2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160" y="1125000"/>
            <a:ext cx="7854840" cy="151164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ενημερωθούν για το </a:t>
            </a:r>
            <a:r>
              <a:rPr b="1" lang="el-GR" sz="2800" spc="-1" strike="noStrike">
                <a:solidFill>
                  <a:srgbClr val="ffffff"/>
                </a:solidFill>
                <a:latin typeface="Constantia"/>
              </a:rPr>
              <a:t>χρόνο</a:t>
            </a:r>
            <a:r>
              <a:rPr b="0" lang="el-GR" sz="2800" spc="-1" strike="noStrike">
                <a:solidFill>
                  <a:srgbClr val="ffffff"/>
                </a:solidFill>
                <a:latin typeface="Constantia"/>
              </a:rPr>
              <a:t> και το </a:t>
            </a:r>
            <a:r>
              <a:rPr b="1" lang="el-GR" sz="2800" spc="-1" strike="noStrike">
                <a:solidFill>
                  <a:srgbClr val="ffffff"/>
                </a:solidFill>
                <a:latin typeface="Constantia"/>
              </a:rPr>
              <a:t>σκοπό</a:t>
            </a:r>
            <a:r>
              <a:rPr b="0" lang="el-GR" sz="2800" spc="-1" strike="noStrike">
                <a:solidFill>
                  <a:srgbClr val="ffffff"/>
                </a:solidFill>
                <a:latin typeface="Constantia"/>
              </a:rPr>
              <a:t> της σύνθεσης του κειμένου</a:t>
            </a:r>
            <a:endParaRPr b="0" lang="en-US" sz="2800" spc="-1" strike="noStrike">
              <a:solidFill>
                <a:srgbClr val="ffffff"/>
              </a:solidFill>
              <a:latin typeface="Constantia"/>
            </a:endParaRPr>
          </a:p>
        </p:txBody>
      </p:sp>
      <p:sp>
        <p:nvSpPr>
          <p:cNvPr id="221" name="4 - Υπότιτλος"/>
          <p:cNvSpPr/>
          <p:nvPr/>
        </p:nvSpPr>
        <p:spPr>
          <a:xfrm>
            <a:off x="539640" y="2133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τη δυναμική των </a:t>
            </a:r>
            <a:r>
              <a:rPr b="1" lang="el-GR" sz="2800" spc="-1" strike="noStrike">
                <a:solidFill>
                  <a:srgbClr val="000000"/>
                </a:solidFill>
                <a:latin typeface="Constantia"/>
              </a:rPr>
              <a:t>συμβόλων</a:t>
            </a:r>
            <a:r>
              <a:rPr b="0" lang="el-GR" sz="2800" spc="-1" strike="noStrike">
                <a:solidFill>
                  <a:srgbClr val="000000"/>
                </a:solidFill>
                <a:latin typeface="Constantia"/>
              </a:rPr>
              <a:t> και των </a:t>
            </a:r>
            <a:r>
              <a:rPr b="1" lang="el-GR" sz="2800" spc="-1" strike="noStrike">
                <a:solidFill>
                  <a:srgbClr val="000000"/>
                </a:solidFill>
                <a:latin typeface="Constantia"/>
              </a:rPr>
              <a:t>εικόνων</a:t>
            </a:r>
            <a:r>
              <a:rPr b="0" lang="el-GR" sz="2800" spc="-1" strike="noStrike">
                <a:solidFill>
                  <a:srgbClr val="000000"/>
                </a:solidFill>
                <a:latin typeface="Constantia"/>
              </a:rPr>
              <a:t> του</a:t>
            </a:r>
            <a:endParaRPr b="0" lang="en-US" sz="2800" spc="-1" strike="noStrike">
              <a:solidFill>
                <a:srgbClr val="000000"/>
              </a:solidFill>
              <a:latin typeface="Arial"/>
            </a:endParaRPr>
          </a:p>
        </p:txBody>
      </p:sp>
      <p:sp>
        <p:nvSpPr>
          <p:cNvPr id="222"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πεξεργαστούν τις </a:t>
            </a:r>
            <a:r>
              <a:rPr b="1" lang="el-GR" sz="2800" spc="-1" strike="noStrike">
                <a:solidFill>
                  <a:srgbClr val="000000"/>
                </a:solidFill>
                <a:latin typeface="Constantia"/>
              </a:rPr>
              <a:t>θεολογικές</a:t>
            </a:r>
            <a:r>
              <a:rPr b="0" lang="el-GR" sz="2800" spc="-1" strike="noStrike">
                <a:solidFill>
                  <a:srgbClr val="000000"/>
                </a:solidFill>
                <a:latin typeface="Constantia"/>
              </a:rPr>
              <a:t> </a:t>
            </a:r>
            <a:r>
              <a:rPr b="1" lang="el-GR" sz="2800" spc="-1" strike="noStrike">
                <a:solidFill>
                  <a:srgbClr val="000000"/>
                </a:solidFill>
                <a:latin typeface="Constantia"/>
              </a:rPr>
              <a:t>ιδέες</a:t>
            </a:r>
            <a:r>
              <a:rPr b="0" lang="el-GR" sz="2800" spc="-1" strike="noStrike">
                <a:solidFill>
                  <a:srgbClr val="000000"/>
                </a:solidFill>
                <a:latin typeface="Constantia"/>
              </a:rPr>
              <a:t> του κειμένου ως προς τη σχέση τους με το σύγχρονο άνθρωπο </a:t>
            </a:r>
            <a:endParaRPr b="0" lang="en-US" sz="2800" spc="-1" strike="noStrike">
              <a:solidFill>
                <a:srgbClr val="000000"/>
              </a:solidFill>
              <a:latin typeface="Arial"/>
            </a:endParaRPr>
          </a:p>
        </p:txBody>
      </p:sp>
      <p:sp>
        <p:nvSpPr>
          <p:cNvPr id="223"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δείξουν τα στερεότυπα και τις συγχύσεις που διατηρούνται γύρω από το «δίλημμα» </a:t>
            </a:r>
            <a:r>
              <a:rPr b="1" lang="el-GR" sz="2800" spc="-1" strike="noStrike">
                <a:solidFill>
                  <a:srgbClr val="000000"/>
                </a:solidFill>
                <a:latin typeface="Constantia"/>
              </a:rPr>
              <a:t>επιστήμη – θρησκεία, </a:t>
            </a:r>
            <a:r>
              <a:rPr b="0" lang="el-GR" sz="2800" spc="-1" strike="noStrike">
                <a:solidFill>
                  <a:srgbClr val="000000"/>
                </a:solidFill>
                <a:latin typeface="Constantia"/>
              </a:rPr>
              <a:t>να συζητήσουν και να ελέγξουν τις προσωπικές τους απόψεις πάνω σ’ αυτό</a:t>
            </a:r>
            <a:endParaRPr b="0" lang="en-US" sz="2800" spc="-1" strike="noStrike">
              <a:solidFill>
                <a:srgbClr val="000000"/>
              </a:solidFill>
              <a:latin typeface="Arial"/>
            </a:endParaRPr>
          </a:p>
        </p:txBody>
      </p:sp>
      <p:pic>
        <p:nvPicPr>
          <p:cNvPr id="224"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4" dur="2000"/>
                                        <p:tgtEl>
                                          <p:spTgt spid="2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9" dur="2000"/>
                                        <p:tgtEl>
                                          <p:spTgt spid="22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22">
                                            <p:txEl>
                                              <p:pRg st="0" end="0"/>
                                            </p:txEl>
                                          </p:spTgt>
                                        </p:tgtEl>
                                        <p:attrNameLst>
                                          <p:attrName>style.visibility</p:attrName>
                                        </p:attrNameLst>
                                      </p:cBhvr>
                                      <p:to>
                                        <p:strVal val="visible"/>
                                      </p:to>
                                    </p:set>
                                    <p:animEffect filter="fade" transition="in">
                                      <p:cBhvr additive="repl">
                                        <p:cTn id="44" dur="2000"/>
                                        <p:tgtEl>
                                          <p:spTgt spid="22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9" dur="2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33160" y="1196640"/>
            <a:ext cx="7854840" cy="180036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βρουν στοιχεία για τη δημιουργία/προέλευση του κόσμου σε άλλες θρησκείες και κοσμοθεωρίες και να αναδείξουν τις βασικές τους εκφράσεις</a:t>
            </a:r>
            <a:endParaRPr b="0" lang="en-US" sz="2800" spc="-1" strike="noStrike">
              <a:solidFill>
                <a:srgbClr val="ffffff"/>
              </a:solidFill>
              <a:latin typeface="Constantia"/>
            </a:endParaRPr>
          </a:p>
        </p:txBody>
      </p:sp>
      <p:sp>
        <p:nvSpPr>
          <p:cNvPr id="226" name="4 - Υπότιτλος"/>
          <p:cNvSpPr/>
          <p:nvPr/>
        </p:nvSpPr>
        <p:spPr>
          <a:xfrm>
            <a:off x="539640" y="3357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ζητήσουν σχετικά κείμενα και έργα τέχνης και να δημιουργήσουν ένα μικρό αρχείο</a:t>
            </a:r>
            <a:endParaRPr b="0" lang="en-US" sz="2800" spc="-1" strike="noStrike">
              <a:solidFill>
                <a:srgbClr val="000000"/>
              </a:solidFill>
              <a:latin typeface="Arial"/>
            </a:endParaRPr>
          </a:p>
        </p:txBody>
      </p:sp>
      <p:sp>
        <p:nvSpPr>
          <p:cNvPr id="227" name="4 - Υπότιτλος"/>
          <p:cNvSpPr/>
          <p:nvPr/>
        </p:nvSpPr>
        <p:spPr>
          <a:xfrm>
            <a:off x="611280" y="4724280"/>
            <a:ext cx="7854840" cy="1008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οργανώσουν μια συνδιδασκαλία με τον καθηγητή της Βιολογίας και των Θρησκευτικών</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56" dur="2000"/>
                                        <p:tgtEl>
                                          <p:spTgt spid="22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61" dur="2000"/>
                                        <p:tgtEl>
                                          <p:spTgt spid="22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6" dur="2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 Υπότιτλος"/>
          <p:cNvSpPr/>
          <p:nvPr/>
        </p:nvSpPr>
        <p:spPr>
          <a:xfrm>
            <a:off x="611280" y="141300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προβληματιστούν και να εκφράσουν τις ιδέες τους για τη θέση του δυτικού ανθρώπου απέναντι στη φύση σήμερα</a:t>
            </a:r>
            <a:endParaRPr b="0" lang="en-US" sz="2800" spc="-1" strike="noStrike">
              <a:solidFill>
                <a:srgbClr val="000000"/>
              </a:solidFill>
              <a:latin typeface="Arial"/>
            </a:endParaRPr>
          </a:p>
        </p:txBody>
      </p:sp>
      <p:pic>
        <p:nvPicPr>
          <p:cNvPr id="230" name="1 - Τίτλος" descr=""/>
          <p:cNvPicPr/>
          <p:nvPr/>
        </p:nvPicPr>
        <p:blipFill>
          <a:blip r:embed="rId1"/>
          <a:stretch/>
        </p:blipFill>
        <p:spPr>
          <a:xfrm>
            <a:off x="274680" y="176040"/>
            <a:ext cx="8120160" cy="1030320"/>
          </a:xfrm>
          <a:prstGeom prst="rect">
            <a:avLst/>
          </a:prstGeom>
          <a:ln w="0">
            <a:noFill/>
          </a:ln>
        </p:spPr>
      </p:pic>
      <p:sp>
        <p:nvSpPr>
          <p:cNvPr id="231" name="4 - Υπότιτλος"/>
          <p:cNvSpPr/>
          <p:nvPr/>
        </p:nvSpPr>
        <p:spPr>
          <a:xfrm>
            <a:off x="611280" y="285264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λάβουν μια συγκεκριμένη προσωπική ευθύνη (π.χ. συμμετοχή σε δενδροφύτευση, φροντίδα του κήπου του σχολείου, την υιοθέτηση ενός ζώου)</a:t>
            </a:r>
            <a:endParaRPr b="0" lang="en-US" sz="2800" spc="-1" strike="noStrike">
              <a:solidFill>
                <a:srgbClr val="000000"/>
              </a:solidFill>
              <a:latin typeface="Arial"/>
            </a:endParaRPr>
          </a:p>
        </p:txBody>
      </p:sp>
      <p:sp>
        <p:nvSpPr>
          <p:cNvPr id="232" name="4 - Υπότιτλος"/>
          <p:cNvSpPr/>
          <p:nvPr/>
        </p:nvSpPr>
        <p:spPr>
          <a:xfrm>
            <a:off x="611280" y="472428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νημερωθούν για τις πρωτοβουλίες του Οικουμενικού Πατριαρχείου για το φυσικό περιβάλλον και για τη δράση οικολογικών οργανώσεων.</a:t>
            </a:r>
            <a:endParaRPr b="0" lang="en-US" sz="2800" spc="-1" strike="noStrike">
              <a:solidFill>
                <a:srgbClr val="000000"/>
              </a:solidFill>
              <a:latin typeface="Arial"/>
            </a:endParaRPr>
          </a:p>
        </p:txBody>
      </p:sp>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73" dur="2000"/>
                                        <p:tgtEl>
                                          <p:spTgt spid="22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83" dur="2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 Υπότιτλος"/>
          <p:cNvSpPr/>
          <p:nvPr/>
        </p:nvSpPr>
        <p:spPr>
          <a:xfrm>
            <a:off x="611280" y="162864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χρησιμοποιούν σωστό θεολογικό λεξιλόγιο (καλός λίαν, κατ’ εικόνα, καθ’ ομοίωσιν, ποιητής, κτίση)</a:t>
            </a:r>
            <a:endParaRPr b="0" lang="en-US" sz="2800" spc="-1" strike="noStrike">
              <a:solidFill>
                <a:srgbClr val="000000"/>
              </a:solidFill>
              <a:latin typeface="Arial"/>
            </a:endParaRPr>
          </a:p>
        </p:txBody>
      </p:sp>
      <p:pic>
        <p:nvPicPr>
          <p:cNvPr id="234" name="1 - Τίτλος" descr=""/>
          <p:cNvPicPr/>
          <p:nvPr/>
        </p:nvPicPr>
        <p:blipFill>
          <a:blip r:embed="rId1"/>
          <a:stretch/>
        </p:blipFill>
        <p:spPr>
          <a:xfrm>
            <a:off x="274680" y="12600"/>
            <a:ext cx="8120160" cy="1455840"/>
          </a:xfrm>
          <a:prstGeom prst="rect">
            <a:avLst/>
          </a:prstGeom>
          <a:ln w="0">
            <a:noFill/>
          </a:ln>
        </p:spPr>
      </p:pic>
      <p:sp>
        <p:nvSpPr>
          <p:cNvPr id="235" name="4 - Υπότιτλος"/>
          <p:cNvSpPr/>
          <p:nvPr/>
        </p:nvSpPr>
        <p:spPr>
          <a:xfrm>
            <a:off x="611280" y="314172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τη χριστιανική άποψη για τη δημιουργία του κόσμου</a:t>
            </a:r>
            <a:endParaRPr b="0" lang="en-US" sz="2800" spc="-1" strike="noStrike">
              <a:solidFill>
                <a:srgbClr val="000000"/>
              </a:solidFill>
              <a:latin typeface="Arial"/>
            </a:endParaRPr>
          </a:p>
        </p:txBody>
      </p:sp>
      <p:sp>
        <p:nvSpPr>
          <p:cNvPr id="236" name="4 - Υπότιτλος"/>
          <p:cNvSpPr/>
          <p:nvPr/>
        </p:nvSpPr>
        <p:spPr>
          <a:xfrm>
            <a:off x="611280" y="429264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με επιχειρήματα τις συνέπειες της χριστιανικής πίστης για τη Δημιουργία για τις ευθύνες του ανθρώπου στον κόσμο</a:t>
            </a:r>
            <a:endParaRPr b="0" lang="en-US" sz="2800" spc="-1" strike="noStrike">
              <a:solidFill>
                <a:srgbClr val="000000"/>
              </a:solidFill>
              <a:latin typeface="Arial"/>
            </a:endParaRPr>
          </a:p>
        </p:txBody>
      </p:sp>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90" dur="2000"/>
                                        <p:tgtEl>
                                          <p:spTgt spid="23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95" dur="2000"/>
                                        <p:tgtEl>
                                          <p:spTgt spid="23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00" dur="2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 Υπότιτλος"/>
          <p:cNvSpPr/>
          <p:nvPr/>
        </p:nvSpPr>
        <p:spPr>
          <a:xfrm>
            <a:off x="611280" y="148428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εξηγούν με παραδείγματα τη λειτουργία της βιβλικής μεταφοράς  και συμβολικής γλώσσας</a:t>
            </a:r>
            <a:endParaRPr b="0" lang="en-US" sz="2600" spc="-1" strike="noStrike">
              <a:solidFill>
                <a:srgbClr val="000000"/>
              </a:solidFill>
              <a:latin typeface="Arial"/>
            </a:endParaRPr>
          </a:p>
        </p:txBody>
      </p:sp>
      <p:pic>
        <p:nvPicPr>
          <p:cNvPr id="238" name="1 - Τίτλος" descr=""/>
          <p:cNvPicPr/>
          <p:nvPr/>
        </p:nvPicPr>
        <p:blipFill>
          <a:blip r:embed="rId1"/>
          <a:stretch/>
        </p:blipFill>
        <p:spPr>
          <a:xfrm>
            <a:off x="274680" y="12600"/>
            <a:ext cx="8120160" cy="1455840"/>
          </a:xfrm>
          <a:prstGeom prst="rect">
            <a:avLst/>
          </a:prstGeom>
          <a:ln w="0">
            <a:noFill/>
          </a:ln>
        </p:spPr>
      </p:pic>
      <p:sp>
        <p:nvSpPr>
          <p:cNvPr id="239" name="4 - Υπότιτλος"/>
          <p:cNvSpPr/>
          <p:nvPr/>
        </p:nvSpPr>
        <p:spPr>
          <a:xfrm>
            <a:off x="611280" y="242100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συντάξουν ένα κείμενο ερώτησης – απάντησης με έναν πιστό και έναν αγνωστικιστή</a:t>
            </a:r>
            <a:endParaRPr b="0" lang="en-US" sz="2600" spc="-1" strike="noStrike">
              <a:solidFill>
                <a:srgbClr val="000000"/>
              </a:solidFill>
              <a:latin typeface="Arial"/>
            </a:endParaRPr>
          </a:p>
        </p:txBody>
      </p:sp>
      <p:sp>
        <p:nvSpPr>
          <p:cNvPr id="240" name="4 - Υπότιτλος"/>
          <p:cNvSpPr/>
          <p:nvPr/>
        </p:nvSpPr>
        <p:spPr>
          <a:xfrm>
            <a:off x="611280" y="3357720"/>
            <a:ext cx="828180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τις εικόνες των κοσμοειδώλων (από την αρχαιότητα έως σήμερα) και να τις οργανώσουν σε ένα αρχείο με σχόλια / τίτλους από τη λογοτεχνία (συνεργασία με το φιλόλογο &amp; τον καθηγητή ξένης γλώσσας)</a:t>
            </a:r>
            <a:endParaRPr b="0" lang="en-US" sz="2600" spc="-1" strike="noStrike">
              <a:solidFill>
                <a:srgbClr val="000000"/>
              </a:solidFill>
              <a:latin typeface="Arial"/>
            </a:endParaRPr>
          </a:p>
        </p:txBody>
      </p:sp>
      <p:sp>
        <p:nvSpPr>
          <p:cNvPr id="241" name="4 - Υπότιτλος"/>
          <p:cNvSpPr/>
          <p:nvPr/>
        </p:nvSpPr>
        <p:spPr>
          <a:xfrm>
            <a:off x="611280" y="5516640"/>
            <a:ext cx="83534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εικόνες του κόσμου άλλων θρησκειών και να δημιουργήσουν ένα πόστερ για την τάξη τους</a:t>
            </a:r>
            <a:endParaRPr b="0" lang="en-US" sz="2600" spc="-1" strike="noStrike">
              <a:solidFill>
                <a:srgbClr val="000000"/>
              </a:solidFill>
              <a:latin typeface="Arial"/>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07" dur="2000"/>
                                        <p:tgtEl>
                                          <p:spTgt spid="23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12" dur="2000"/>
                                        <p:tgtEl>
                                          <p:spTgt spid="23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17" dur="2000"/>
                                        <p:tgtEl>
                                          <p:spTgt spid="24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2"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4 - Υπότιτλος"/>
          <p:cNvSpPr/>
          <p:nvPr/>
        </p:nvSpPr>
        <p:spPr>
          <a:xfrm>
            <a:off x="611280" y="155736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και να  στοχαστούν πάνω  στις προκλήσεις που συνεπάγεται για το σύγχρονο Χριστιανό η βιβλική κοσμολογία</a:t>
            </a:r>
            <a:endParaRPr b="0" lang="en-US" sz="2800" spc="-1" strike="noStrike">
              <a:solidFill>
                <a:srgbClr val="000000"/>
              </a:solidFill>
              <a:latin typeface="Arial"/>
            </a:endParaRPr>
          </a:p>
        </p:txBody>
      </p:sp>
      <p:pic>
        <p:nvPicPr>
          <p:cNvPr id="243" name="1 - Τίτλος" descr=""/>
          <p:cNvPicPr/>
          <p:nvPr/>
        </p:nvPicPr>
        <p:blipFill>
          <a:blip r:embed="rId1"/>
          <a:stretch/>
        </p:blipFill>
        <p:spPr>
          <a:xfrm>
            <a:off x="274680" y="19080"/>
            <a:ext cx="8120160" cy="1833480"/>
          </a:xfrm>
          <a:prstGeom prst="rect">
            <a:avLst/>
          </a:prstGeom>
          <a:ln w="0">
            <a:noFill/>
          </a:ln>
        </p:spPr>
      </p:pic>
      <p:sp>
        <p:nvSpPr>
          <p:cNvPr id="244" name="4 - Υπότιτλος"/>
          <p:cNvSpPr/>
          <p:nvPr/>
        </p:nvSpPr>
        <p:spPr>
          <a:xfrm>
            <a:off x="611280" y="3141720"/>
            <a:ext cx="7854840" cy="23032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γράψουν έναν «λόγο» με θέμα «μια μέρα η επιστήμη θα αποδείξει το λάθος της Αγίας Γραφής», λαμβάνοντας υπόψη τις θρησκευτικές, φιλοσοφικές και άλλες θεωρήσεις που επεξεργάστηκαν στο μάθημ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 </a:t>
            </a:r>
            <a:endParaRPr b="0" lang="en-US" sz="2800" spc="-1" strike="noStrike">
              <a:solidFill>
                <a:srgbClr val="000000"/>
              </a:solidFill>
              <a:latin typeface="Arial"/>
            </a:endParaRPr>
          </a:p>
        </p:txBody>
      </p:sp>
      <p:sp>
        <p:nvSpPr>
          <p:cNvPr id="245" name="4 - Υπότιτλος"/>
          <p:cNvSpPr/>
          <p:nvPr/>
        </p:nvSpPr>
        <p:spPr>
          <a:xfrm>
            <a:off x="611280" y="5516640"/>
            <a:ext cx="7993080" cy="1008000"/>
          </a:xfrm>
          <a:prstGeom prst="rect">
            <a:avLst/>
          </a:prstGeom>
          <a:noFill/>
          <a:ln w="0">
            <a:noFill/>
          </a:ln>
        </p:spPr>
        <p:style>
          <a:lnRef idx="0"/>
          <a:fillRef idx="0"/>
          <a:effectRef idx="0"/>
          <a:fontRef idx="minor"/>
        </p:style>
        <p:txBody>
          <a:bodyPr lIns="0" rIns="1836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ντάξουν ένα κείμενο ερώτησης – απάντησης με έναν πιστό και έναν αγνωστικιστή</a:t>
            </a:r>
            <a:endParaRPr b="0" lang="en-US" sz="2800" spc="-1" strike="noStrike">
              <a:solidFill>
                <a:srgbClr val="000000"/>
              </a:solidFill>
              <a:latin typeface="Arial"/>
            </a:endParaRPr>
          </a:p>
        </p:txBody>
      </p:sp>
    </p:spTree>
  </p:cSld>
  <p:transition>
    <p:wedg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29" dur="2000"/>
                                        <p:tgtEl>
                                          <p:spTgt spid="24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34" dur="2000"/>
                                        <p:tgtEl>
                                          <p:spTgt spid="24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2000"/>
                                        <p:tgtEl>
                                          <p:spTgt spid="24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44" dur="20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4 - Υπότιτλος"/>
          <p:cNvSpPr/>
          <p:nvPr/>
        </p:nvSpPr>
        <p:spPr>
          <a:xfrm>
            <a:off x="611280" y="1341360"/>
            <a:ext cx="7710480" cy="244800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γκεντρώσουν τις απόψεις που ακούστηκαν στη διάρκεια της επεξεργασίας του θέματος (βιβλικές, μυθικές, επιστημονικές, καλλιτεχνικές,  θρησκευτικές, φιλοσοφικές, καθώς και τις δικές τους) και να φτιάξουν ένα κολλάζ</a:t>
            </a:r>
            <a:endParaRPr b="0" lang="en-US" sz="2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1 - Τίτλος" descr=""/>
          <p:cNvPicPr/>
          <p:nvPr/>
        </p:nvPicPr>
        <p:blipFill>
          <a:blip r:embed="rId1"/>
          <a:stretch/>
        </p:blipFill>
        <p:spPr>
          <a:xfrm>
            <a:off x="274680" y="-66600"/>
            <a:ext cx="8120160" cy="1773000"/>
          </a:xfrm>
          <a:prstGeom prst="rect">
            <a:avLst/>
          </a:prstGeom>
          <a:ln w="0">
            <a:noFill/>
          </a:ln>
        </p:spPr>
      </p:pic>
      <p:sp>
        <p:nvSpPr>
          <p:cNvPr id="248"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διατυπώσουν συγκεκριμένα ερωτήματά τους που παραμένουν αναπάντητα μετά τη διδασκαλία της Δημιουργίας.</a:t>
            </a:r>
            <a:endParaRPr b="0" lang="en-US" sz="2800" spc="-1" strike="noStrike">
              <a:solidFill>
                <a:srgbClr val="000000"/>
              </a:solidFill>
              <a:latin typeface="Arial"/>
            </a:endParaRPr>
          </a:p>
        </p:txBody>
      </p:sp>
    </p:spTree>
  </p:cSld>
  <p:transition>
    <p:wedg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51" dur="2000"/>
                                        <p:tgtEl>
                                          <p:spTgt spid="24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56"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4 - Υπότιτλος"/>
          <p:cNvSpPr/>
          <p:nvPr/>
        </p:nvSpPr>
        <p:spPr>
          <a:xfrm>
            <a:off x="611280" y="1484280"/>
            <a:ext cx="7710480" cy="2449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nstantia"/>
              </a:rPr>
              <a:t>Η διαρκής ποιοτική αξιολόγηση για την επίτευξη όλων των στόχων επανατροφοδοτεί ταυτόχρονα και την διδακτική διαδικασία. Πέρα από τις ερωτήσεις και την αξιολόγηση του παραγόμενου κάθε φορά έργου, ίσως χρειάζεται η διεξαγωγή ενός σχεδίου εργασίας με την ομαδοσυνεργατική μέθοδο σχετικά με την σχέση οικολογίας και δημιουργίας.  </a:t>
            </a:r>
            <a:endParaRPr b="0" lang="en-US" sz="3200" spc="-1" strike="noStrike">
              <a:solidFill>
                <a:srgbClr val="000000"/>
              </a:solidFill>
              <a:latin typeface="Arial"/>
            </a:endParaRPr>
          </a:p>
        </p:txBody>
      </p:sp>
      <p:pic>
        <p:nvPicPr>
          <p:cNvPr id="250" name="1 - Τίτλος" descr=""/>
          <p:cNvPicPr/>
          <p:nvPr/>
        </p:nvPicPr>
        <p:blipFill>
          <a:blip r:embed="rId1"/>
          <a:stretch/>
        </p:blipFill>
        <p:spPr>
          <a:xfrm>
            <a:off x="530280" y="109440"/>
            <a:ext cx="7864560" cy="957240"/>
          </a:xfrm>
          <a:prstGeom prst="rect">
            <a:avLst/>
          </a:prstGeom>
          <a:ln w="0">
            <a:noFill/>
          </a:ln>
        </p:spPr>
      </p:pic>
      <p:sp>
        <p:nvSpPr>
          <p:cNvPr id="251"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lvl="4" marL="2057400" indent="-2286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63" dur="2000"/>
                                        <p:tgtEl>
                                          <p:spTgt spid="24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endCondLst>
                                    <p:cond evt="begin"/>
                                  </p:endCondLst>
                                  <p:childTnLst>
                                    <p:set>
                                      <p:cBhvr>
                                        <p:cTn id="16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68"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ΕΡΙΕΧΟΜΕΝ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Κείμενα </a:t>
            </a:r>
            <a:endParaRPr b="0" lang="en-US" sz="36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Βιβλικά κείμενα: Γένεση, Ψαλμοί</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πατερικών κειμένων</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σύγχρονων θεολόγων</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λογοτεχνικών και φιλοσοφικών κειμένων: </a:t>
            </a:r>
            <a:r>
              <a:rPr b="0" lang="en-US" sz="2000" spc="-1" strike="noStrike">
                <a:solidFill>
                  <a:srgbClr val="ffffff"/>
                </a:solidFill>
                <a:latin typeface="Constantia"/>
              </a:rPr>
              <a:t>Reeves,</a:t>
            </a:r>
            <a:r>
              <a:rPr b="0" lang="en-US" sz="3200" spc="-1" strike="noStrike">
                <a:solidFill>
                  <a:srgbClr val="ffffff"/>
                </a:solidFill>
                <a:latin typeface="Constantia"/>
              </a:rPr>
              <a:t> </a:t>
            </a:r>
            <a:r>
              <a:rPr b="0" i="1" lang="el-GR" sz="2000" spc="-1" strike="noStrike">
                <a:solidFill>
                  <a:srgbClr val="ffffff"/>
                </a:solidFill>
                <a:latin typeface="Constantia"/>
              </a:rPr>
              <a:t>Η πιο όμορφη ιστορία του κόσμου</a:t>
            </a:r>
            <a:r>
              <a:rPr b="0" lang="el-GR" sz="2000" spc="-1" strike="noStrike">
                <a:solidFill>
                  <a:srgbClr val="ffffff"/>
                </a:solidFill>
                <a:latin typeface="Constantia"/>
              </a:rPr>
              <a:t>,</a:t>
            </a:r>
            <a:r>
              <a:rPr b="0" lang="en-US" sz="2000" spc="-1" strike="noStrike">
                <a:solidFill>
                  <a:srgbClr val="ffffff"/>
                </a:solidFill>
                <a:latin typeface="Constantia"/>
              </a:rPr>
              <a:t> </a:t>
            </a:r>
            <a:r>
              <a:rPr b="0" lang="el-GR" sz="2000" spc="-1" strike="noStrike">
                <a:solidFill>
                  <a:srgbClr val="ffffff"/>
                </a:solidFill>
                <a:latin typeface="Constantia"/>
              </a:rPr>
              <a:t>Άρμστρονγκ, </a:t>
            </a:r>
            <a:r>
              <a:rPr b="0" i="1" lang="el-GR" sz="2000" spc="-1" strike="noStrike">
                <a:solidFill>
                  <a:srgbClr val="ffffff"/>
                </a:solidFill>
                <a:latin typeface="Constantia"/>
              </a:rPr>
              <a:t>Εν Αρχή</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Εκλαϊκευμένα επιστημονικά κείμενα:</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Γραμματικάκης, Κόμη της Βερενίκης, </a:t>
            </a:r>
            <a:r>
              <a:rPr b="0" lang="en-US" sz="2000" spc="-1" strike="noStrike">
                <a:solidFill>
                  <a:srgbClr val="ffffff"/>
                </a:solidFill>
                <a:latin typeface="Constantia"/>
              </a:rPr>
              <a:t>Hawking, Prigogine, Grasset</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από κοσμογονίες</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Κείμενα άλλων θρησκευτικών παραδόσεων</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1 - Τίτλος" descr=""/>
          <p:cNvPicPr/>
          <p:nvPr/>
        </p:nvPicPr>
        <p:blipFill>
          <a:blip r:embed="rId1"/>
          <a:stretch/>
        </p:blipFill>
        <p:spPr>
          <a:xfrm>
            <a:off x="530280" y="-73080"/>
            <a:ext cx="7864560" cy="1951200"/>
          </a:xfrm>
          <a:prstGeom prst="rect">
            <a:avLst/>
          </a:prstGeom>
          <a:ln w="0">
            <a:noFill/>
          </a:ln>
        </p:spPr>
      </p:pic>
      <p:sp>
        <p:nvSpPr>
          <p:cNvPr id="205" name="PlaceHolder 1"/>
          <p:cNvSpPr>
            <a:spLocks noGrp="1"/>
          </p:cNvSpPr>
          <p:nvPr>
            <p:ph type="subTitle"/>
          </p:nvPr>
        </p:nvSpPr>
        <p:spPr>
          <a:xfrm>
            <a:off x="533160" y="112500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ιδασκαλία της ενότητας στο μάθημα των Θρησκευτικών συνδυάζετα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ν παράλληλη διδασκαλία αντίστοιχων ενοτήτων στο μάθημα της Φυσικής και της Βιολογίας (π.χ. Η διαδρομή της επιστήμης: Από τον Πτολεμαίο στις σύγχρονες επιστημονικές θεωρίες της μεγάλης έκρηξης, παρουσίαση προβολή </a:t>
            </a:r>
            <a:r>
              <a:rPr b="0" lang="en-US" sz="2400" spc="-1" strike="noStrike">
                <a:solidFill>
                  <a:srgbClr val="ffffff"/>
                </a:solidFill>
                <a:latin typeface="Constantia"/>
              </a:rPr>
              <a:t>video</a:t>
            </a:r>
            <a:r>
              <a:rPr b="0" lang="el-GR" sz="2400" spc="-1" strike="noStrike">
                <a:solidFill>
                  <a:srgbClr val="ffffff"/>
                </a:solidFill>
                <a:latin typeface="Constantia"/>
              </a:rPr>
              <a:t>-ντοκυμανταίρ από το διαδίκτυο για το </a:t>
            </a:r>
            <a:r>
              <a:rPr b="0" lang="en-US" sz="2400" spc="-1" strike="noStrike">
                <a:solidFill>
                  <a:srgbClr val="ffffff"/>
                </a:solidFill>
                <a:latin typeface="Constantia"/>
              </a:rPr>
              <a:t>Project CERN</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φιλολογική επεξεργασία κειμένων και το συσχετισμό τους με εικόνες στο μάθημα της Λογοτεχνί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μετάφραση κειμένων και το συσχετισμό τους με εικόνες στο μάθημα της Ξένης Γλώσσ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Με</a:t>
            </a:r>
            <a:r>
              <a:rPr b="0" lang="el-GR" sz="2400" spc="-1" strike="noStrike">
                <a:solidFill>
                  <a:srgbClr val="ffffff"/>
                </a:solidFill>
                <a:latin typeface="Constantia"/>
              </a:rPr>
              <a:t> ● </a:t>
            </a:r>
            <a:r>
              <a:rPr b="0" i="1" lang="el-GR" sz="2400" spc="-1" strike="noStrike">
                <a:solidFill>
                  <a:srgbClr val="ffffff"/>
                </a:solidFill>
                <a:latin typeface="Constantia"/>
              </a:rPr>
              <a:t>σημειώνονται τα στάδια της πορείας και με</a:t>
            </a:r>
            <a:r>
              <a:rPr b="0" lang="el-GR" sz="2400" spc="-1" strike="noStrike">
                <a:solidFill>
                  <a:srgbClr val="ffffff"/>
                </a:solidFill>
                <a:latin typeface="Constantia"/>
              </a:rPr>
              <a:t> </a:t>
            </a:r>
            <a:r>
              <a:rPr b="0" lang="el-GR" sz="2400" spc="-1" strike="noStrike">
                <a:solidFill>
                  <a:srgbClr val="ffffff"/>
                </a:solidFill>
                <a:latin typeface="Wingdings 3"/>
                <a:ea typeface="Wingdings 3"/>
              </a:rPr>
              <a:t></a:t>
            </a:r>
            <a:r>
              <a:rPr b="0" lang="el-GR" sz="2400" spc="-1" strike="noStrike">
                <a:solidFill>
                  <a:srgbClr val="ffffff"/>
                </a:solidFill>
                <a:latin typeface="Constantia"/>
              </a:rPr>
              <a:t> </a:t>
            </a:r>
            <a:r>
              <a:rPr b="0" i="1" lang="el-GR" sz="2400" spc="-1" strike="noStrike">
                <a:solidFill>
                  <a:srgbClr val="ffffff"/>
                </a:solidFill>
                <a:latin typeface="Constantia"/>
              </a:rPr>
              <a:t>οι δραστηριότητε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50920" y="620280"/>
            <a:ext cx="8642160" cy="604836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Υλικό Μέσ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Τέχνη: Βυζαντινή τέχνη, Μιχαήλ Άγγελ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Ρόθκο, </a:t>
            </a:r>
            <a:r>
              <a:rPr b="0" lang="en-US" sz="3600" spc="-1" strike="noStrike">
                <a:solidFill>
                  <a:srgbClr val="ffffff"/>
                </a:solidFill>
                <a:latin typeface="Constantia"/>
              </a:rPr>
              <a:t>Be One</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αραστάσεις / διακοσμήσεις αβρααμικών παραδόσε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οίηση: Ελύτης, Καρούζ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Φωτογραφίες κοσμοειδώλ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Διαθεματικές προσεγγίσεις</a:t>
            </a:r>
            <a:endParaRPr b="0" lang="en-US" sz="36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ΚΗ: Θεωρίες δημιουργίας σύμπαντος, Έννοια χρόνου-χώρου [άλλες διαστά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ΣΤΡΟΝΟΜΙΑ: Εξερεύνηση-παρατήρηση, Ουράνια σώματα κ.λπ.</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ΑΘΗΜΑΤΙΚΑ: Μαθηματικές έννοιες (άπειρο), Γεωμετρία (στη φύση, στο σύμπαν)</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ΒΙΟΛΟΓΙΑ: Θεωρία εξελίξεως, Νόμοι κληρονομικότητ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ποκρυπτογράφηση </a:t>
            </a:r>
            <a:r>
              <a:rPr b="0" lang="en-US" sz="2400" spc="-1" strike="noStrike">
                <a:solidFill>
                  <a:srgbClr val="ffffff"/>
                </a:solidFill>
                <a:latin typeface="Constantia"/>
              </a:rPr>
              <a:t>DNA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ΟΓΝ. ΕΠΙΣΤΗΜΕΣ: Γεωλογία, Ζωολογία, Φυτολογία, Ωκεανογραφία</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ΙΛΟΣΟΦΙΑ: Αρχαιοελληνική κοσμολογία, Το  νόημα της ζωή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ΟΙΚΟΛΟΓΙΑ: Περιβαλλοντική αγωγή, Οικολογικές οργανώ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50920" y="188640"/>
            <a:ext cx="8642160" cy="6048360"/>
          </a:xfrm>
          <a:prstGeom prst="rect">
            <a:avLst/>
          </a:prstGeom>
          <a:noFill/>
          <a:ln w="0">
            <a:noFill/>
          </a:ln>
        </p:spPr>
        <p:txBody>
          <a:bodyPr lIns="0" rIns="18360" anchor="t">
            <a:noAutofit/>
          </a:bodyPr>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1</a:t>
            </a:r>
            <a:r>
              <a:rPr b="1" lang="el-GR" sz="2800" spc="-1" strike="noStrike" baseline="30000">
                <a:solidFill>
                  <a:srgbClr val="ffffff"/>
                </a:solidFill>
                <a:latin typeface="Constantia"/>
              </a:rPr>
              <a:t>ο </a:t>
            </a:r>
            <a:r>
              <a:rPr b="1" lang="el-GR" sz="2800" spc="-1" strike="noStrike">
                <a:solidFill>
                  <a:srgbClr val="ffffff"/>
                </a:solidFill>
                <a:latin typeface="Constantia"/>
              </a:rPr>
              <a:t> δίωρο (αφόρμηση, διερεύνηση γνώσεων, πρώτη επαφή)</a:t>
            </a:r>
            <a:endParaRPr b="0" lang="en-US" sz="28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νώμες / ερωτήματα μαθητών </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ιγισμός ιδεών με θέμα «κοσμογονία – δημιουργ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υθολογικές κοσμογονίες (Βαβυλώνιοι, Αιγύπτιοι, Αρχαίοι Έλλην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ργασία σε ομάδες: χωρίζεται η τάξη σε 4 ομάδες και σε κάθε μία δίνονται αποσπάσματα από διαφορετικές κοσμογονίες και κοινές ερωτήσεις με σκοπό να ανακαλύψουν τα συναρπαστικά αυτά κείμενα και τα κοινά τους στοιχεία: π.χ</a:t>
            </a:r>
            <a:r>
              <a:rPr b="0" lang="en-US" sz="2400" spc="-1" strike="noStrike">
                <a:solidFill>
                  <a:srgbClr val="ffffff"/>
                </a:solidFill>
                <a:latin typeface="Constantia"/>
              </a:rPr>
              <a:t>.</a:t>
            </a:r>
            <a:r>
              <a:rPr b="0" lang="el-GR" sz="2400" spc="-1" strike="noStrike">
                <a:solidFill>
                  <a:srgbClr val="ffffff"/>
                </a:solidFill>
                <a:latin typeface="Constantia"/>
              </a:rPr>
              <a:t> η μεγάλη έκρηξη, ένας ισχυρός Θεός κ.ά. με τη βοήθεια του υποστηρικτικού φακέλου της ενότητας (ηλεκτρονικό και έντυπο υλικό), ανακοίνω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ημιουργία στην τέχνη (λογοτεχνία, ζωγραφική, φωτογραφία)</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ξερεύνηση και αναζήτηση στο διαδίκτυο και στο φάκελο της ενότητας, συγκέντρωση υλικού (θα χρησιμοποιηθεί στη συνέχεια)</a:t>
            </a:r>
            <a:endParaRPr b="0" lang="en-US" sz="2400" spc="-1" strike="noStrike">
              <a:solidFill>
                <a:srgbClr val="ffffff"/>
              </a:solidFill>
              <a:latin typeface="Constantia"/>
            </a:endParaRPr>
          </a:p>
          <a:p>
            <a:pPr>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23640" y="189000"/>
            <a:ext cx="7854840" cy="1752480"/>
          </a:xfrm>
          <a:prstGeom prst="rect">
            <a:avLst/>
          </a:prstGeom>
          <a:noFill/>
          <a:ln w="0">
            <a:noFill/>
          </a:ln>
        </p:spPr>
        <p:txBody>
          <a:bodyPr lIns="0" rIns="1836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2ο δίωρο (Η Δημιουργία στην Ορθόδοξη Χριστιανική παράδοση)</a:t>
            </a:r>
            <a:endParaRPr b="0" lang="en-US" sz="28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μηνευτική προσέγγιση της διήγησης της Παλαιάς Διαθήκης (1</a:t>
            </a:r>
            <a:r>
              <a:rPr b="0" lang="el-GR" sz="2300" spc="-1" strike="noStrike" baseline="30000">
                <a:solidFill>
                  <a:srgbClr val="ffffff"/>
                </a:solidFill>
                <a:latin typeface="Constantia"/>
              </a:rPr>
              <a:t>ο</a:t>
            </a:r>
            <a:r>
              <a:rPr b="0" lang="el-GR" sz="2300" spc="-1" strike="noStrike">
                <a:solidFill>
                  <a:srgbClr val="ffffff"/>
                </a:solidFill>
                <a:latin typeface="Constantia"/>
              </a:rPr>
              <a:t> κεφάλαιο Γενέσεως)</a:t>
            </a:r>
            <a:endParaRPr b="0" lang="en-US" sz="2300" spc="-1" strike="noStrike">
              <a:solidFill>
                <a:srgbClr val="ffffff"/>
              </a:solidFill>
              <a:latin typeface="Constantia"/>
            </a:endParaRPr>
          </a:p>
          <a:p>
            <a:pPr lvl="1" marL="457200" algn="just">
              <a:lnSpc>
                <a:spcPct val="100000"/>
              </a:lnSpc>
              <a:spcBef>
                <a:spcPts val="5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άγνωση του κειμένου - μετάφραση από τον εκπαιδευτικό, χωρισμός σε ομάδες, φύλλο εργασίας με σκοπό την βαθύτερη κατανόησή του και την αναγνώριση των θεολογικών αληθειών και της σημασίας τους για τον άνθρωπο   </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Οι αλήθειες του κειμένου στη χριστιανική Εκκλησία: η ευχαριστιακή προσέγγιση του κόσμου και της ζωής </a:t>
            </a:r>
            <a:endParaRPr b="0" lang="en-US" sz="23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τις ομάδες οι μαθητές επιλέγουν και συσχετίζουν το βιβλικό κείμενο με αποσπάσματα έργων εκκλησιαστικών συγγραφέων και σύγχρονων θεολόγων και στοχαστών (από την Εξαήμερο έως σύγχρονα θεολογικά κείμενα των Ιω. Ζηζιούλα, Ν. Ματσούκα, Οικ. Πατριάρχη Βαρθολομαίου)</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Έκφραση προσωπικών απόψεων</a:t>
            </a:r>
            <a:endParaRPr b="0" lang="en-US" sz="20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υζήτηση σε ομάδες και ολομέλεια</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6600" y="189000"/>
            <a:ext cx="7853040" cy="175248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3ο δίωρο (Η Δημιουργία στις παγκόσμιες θρησκευτικές αναζητήσεις)</a:t>
            </a:r>
            <a:endParaRPr b="0" lang="en-US" sz="24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γιατί» της ανθρώπινης αναζήτησης για τις απαρχές («ψάχνοντας την αρχή, ψάχνοντας την αλήθεια μα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ωτηματολόγιο με τη μέθοδο της «χιονοστιβάδας» (1-2-4)</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φυσικό περιβάλλον στις άλλες αβρααμικές παραδόσεις (Ιουδαϊσμός – Ισλάμ)</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Η φύση και ο κόσμος στις ανατολικές θρησκείες (Ινδουισμός – Βουδισμός)</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γκλίσεις και αποκλίσει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γασία σε ομάδες με κείμενα και εικόνες από το φάκελο της ενότητας και τα αποτελέσματα της αναζήτησης του 1</a:t>
            </a:r>
            <a:r>
              <a:rPr b="0" lang="el-GR" sz="2300" spc="-1" strike="noStrike" baseline="30000">
                <a:solidFill>
                  <a:srgbClr val="ffffff"/>
                </a:solidFill>
                <a:latin typeface="Constantia"/>
              </a:rPr>
              <a:t>ου</a:t>
            </a:r>
            <a:r>
              <a:rPr b="0" lang="el-GR" sz="2300" spc="-1" strike="noStrike">
                <a:solidFill>
                  <a:srgbClr val="ffffff"/>
                </a:solidFill>
                <a:latin typeface="Constantia"/>
              </a:rPr>
              <a:t> διώρου – δημιουργία κολλάζ – πόστερ για ανάρτηση στην τάξη</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απάντητα ερωτήματα</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ζήτηση στην τάξη</a:t>
            </a:r>
            <a:endParaRPr b="0" lang="en-US" sz="2300" spc="-1" strike="noStrike">
              <a:solidFill>
                <a:srgbClr val="ffffff"/>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ξιολόγηση της μέχρι τώρα γνώσης  – συζήτη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Το φυσικό περιβάλλον στον σύγχρονο δυτικό πολιτισμό (κατακτήσεις / καταστροφές πολιτισμών και φύσης, τεχνολογία, μόλυνση, ενεργειακή πολιτική, βιοτεχνολογία, πειραματόζωα κ.ά.)</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γραφή σε θεματικές ομάδες (π.χ. οικολογικά ζητήματα, φύση και πολιτισμός, αειφόρος ανάπτυξη, οι πρωτοβουλίες του Οικουμενικού Πατριαρχείου για το περιβάλλον, παγκόσμιοι και μη κυβερνητικοί οργανισμοί)</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νόηση της παγίδας των ψευδο-διλημμάτων (επιστήμη – Γένεση, επιστήμη - θρησκε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p:txBody>
      </p:sp>
      <p:sp>
        <p:nvSpPr>
          <p:cNvPr id="211" name="2 - Ορθογώνιο"/>
          <p:cNvSpPr/>
          <p:nvPr/>
        </p:nvSpPr>
        <p:spPr>
          <a:xfrm>
            <a:off x="539640" y="1197000"/>
            <a:ext cx="63183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Πραγματοποιείται μία δραστηριότητα του εκπαιδευτικού δράματος: </a:t>
            </a:r>
            <a:r>
              <a:rPr b="0" i="1" lang="el-GR" sz="2400" spc="-1" strike="noStrike">
                <a:solidFill>
                  <a:srgbClr val="000000"/>
                </a:solidFill>
                <a:latin typeface="Constantia"/>
              </a:rPr>
              <a:t>Διάδρομος Συνείδησης</a:t>
            </a:r>
            <a:r>
              <a:rPr b="0" lang="el-GR" sz="2400" spc="-1" strike="noStrike">
                <a:solidFill>
                  <a:srgbClr val="000000"/>
                </a:solidFill>
                <a:latin typeface="Constantia"/>
              </a:rPr>
              <a:t>. Γίνεται συζήτηση για να κατανοήσουν οι μαθητές την παγίδα των ψευδοδιλημμάτων. Χορηγούνται κείμενα θεολόγων και φιλοσόφων αλλά και απόσπασμα με τις απόψεις του </a:t>
            </a:r>
            <a:r>
              <a:rPr b="0" lang="en-US" sz="2400" spc="-1" strike="noStrike">
                <a:solidFill>
                  <a:srgbClr val="000000"/>
                </a:solidFill>
                <a:latin typeface="Constantia"/>
              </a:rPr>
              <a:t>Hawking </a:t>
            </a:r>
            <a:r>
              <a:rPr b="0" lang="el-GR" sz="2400" spc="-1" strike="noStrike">
                <a:solidFill>
                  <a:srgbClr val="000000"/>
                </a:solidFill>
                <a:latin typeface="Constantia"/>
              </a:rPr>
              <a:t>από το νέο του βιβλίο</a:t>
            </a:r>
            <a:r>
              <a:rPr b="0" lang="en-US" sz="2400" spc="-1" strike="noStrike">
                <a:solidFill>
                  <a:srgbClr val="000000"/>
                </a:solidFill>
                <a:latin typeface="Constantia"/>
              </a:rPr>
              <a:t> </a:t>
            </a:r>
            <a:r>
              <a:rPr b="0" lang="el-GR" sz="2400" spc="-1" strike="noStrike">
                <a:solidFill>
                  <a:srgbClr val="000000"/>
                </a:solidFill>
                <a:latin typeface="Constantia"/>
              </a:rPr>
              <a:t>«Το μεγάλο σχέδιο» για το ότι το σύμπαν δεν έχει ανάγκη από Θεό για να δημιουργηθεί. Χωρίζεται η τάξη σε ομάδες και συσκέπτονται αναζητώντας πέντε επιχειρήματα για την άποψη ότι η θρησκεία με την επιστήμη διαφωνούν και πέντε ότι συμφωνούν. </a:t>
            </a:r>
            <a:endParaRPr b="0" lang="en-US" sz="2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33160" y="-27360"/>
            <a:ext cx="7854840" cy="63356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σκευή ερωτηματολογίου για μια συνέντευξη με έναν Βιολόγο και έναν Θεολόγο</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ντιμετωπίζοντας τον κόσμο ως ποίημα: οι ανθρώπινες ευθύνες, ιδέες, δραστηριότητ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Στοχευμένη συζήτηση στην τάξη, για τη δημιουργία «δεκάλογου» του σύγχρονου νέου για τη σχέση των ανθρώπων με τη φύση και απόφαση να πραγματοποιήσει η τάξη μια σχετική δράση.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Η συνεργασία Βιολόγου, Θεολόγου και Φιλολόγων της Ελληνικής και των Ξένων Γλωσσών μπορεί να καταλήξει στην πραγματοποίηση της συνέντευξης και σε έκθεση υλικού με θέμα την κοσμογονία</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 </a:t>
            </a:r>
            <a:endParaRPr b="0" lang="en-US" sz="2000" spc="-1" strike="noStrike">
              <a:solidFill>
                <a:srgbClr val="ffffff"/>
              </a:solidFill>
              <a:latin typeface="Constantia"/>
            </a:endParaRPr>
          </a:p>
          <a:p>
            <a:pPr algn="just">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1 - Τίτλος" descr=""/>
          <p:cNvPicPr/>
          <p:nvPr/>
        </p:nvPicPr>
        <p:blipFill>
          <a:blip r:embed="rId1"/>
          <a:stretch/>
        </p:blipFill>
        <p:spPr>
          <a:xfrm>
            <a:off x="249120" y="1365120"/>
            <a:ext cx="8394840" cy="1901880"/>
          </a:xfrm>
          <a:prstGeom prst="rect">
            <a:avLst/>
          </a:prstGeom>
          <a:ln w="0">
            <a:noFill/>
          </a:ln>
        </p:spPr>
      </p:pic>
      <p:sp>
        <p:nvSpPr>
          <p:cNvPr id="21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ffffff"/>
              </a:solidFill>
              <a:latin typeface="Constanti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49:21Z</dcterms:created>
  <dc:creator>User</dc:creator>
  <dc:description/>
  <dc:language>en-US</dc:language>
  <cp:lastModifiedBy>user</cp:lastModifiedBy>
  <dcterms:modified xsi:type="dcterms:W3CDTF">2011-10-14T08:28:34Z</dcterms:modified>
  <cp:revision>64</cp:revision>
  <dc:subject/>
  <dc:title>ΔΗΜΙΟΥΡΓΙΑ ΤΟΥ ΚΟΣΜΟΥ ΔΙΔΑΚΤΙΚΗ  ΠΟΡΕΙΑ</dc:title>
</cp:coreProperties>
</file>